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wmf" ContentType="image/x-wmf"/>
  <Override PartName="/ppt/media/image18.png" ContentType="image/png"/>
  <Override PartName="/ppt/media/image19.png" ContentType="image/png"/>
  <Override PartName="/ppt/media/image21.png" ContentType="image/png"/>
  <Override PartName="/ppt/media/image32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02E1-4CA9-4E5C-8DA5-603248FF62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DAA9-B74C-43F5-91C3-F422E1582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w” – complete your definition of a PLC on voice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C PP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k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be doc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Cs at Work 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 Everywhere – check #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 4: Example of PLCs and quotes from teachers followed by general quo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F4C3-77A3-4DDA-B8CC-2FDE52F38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87E1-223F-48E4-B576-D97116037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8BE-F1F7-4FDC-B67E-83889E4D9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4B60-A7CD-4621-9EE2-F68C8FDEA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PLC gap analysis information and what you learned about PLCs today, determine how this information can be included in your action pla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take about ____ minutes to work on this activity and then we’ll ask each team to briefly share how they plan to incorporate PLCs into their action pla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Rochel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y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ntico Hi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pping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rkt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drick Hud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NW BOCES Tech 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56E5-3834-4F23-B9C5-4AE2AF749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8CF1-4ACD-4DD9-92AB-1C41B07E4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EF1-3E99-4C29-AABD-31701F505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EB3-D2A4-4BD0-8C80-34C30A075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4DF-A0C0-481B-AB09-E0275D54E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A1F7-C3DA-42FA-BB13-5A0094398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8590-0A9C-4A48-9DFB-072409431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C66C-E1AF-4778-B480-0CFDCF745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15B1-3A0E-4799-8A7E-40F69E628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CE14-6E21-43F2-B493-C6078999C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C4B6-A572-47A9-A0BB-BDA0485CB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A905-2BDB-41BB-ACB9-C0107B70E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049C-DD95-4390-81E3-E83FCFAD8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04B7-5C4E-4E86-8E7E-500173FEB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E0C4-B407-4634-9EEA-DF7068E55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0346-4E78-4148-A544-046AF897C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AB98-CDE2-44B2-99B2-4A1A376F5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72A9-DFC8-4ED3-ABA7-574BC5039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D31-C639-4BC8-9016-C89E9BED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651-BE65-4C52-892E-DA9E302B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D14-6375-49B8-8AD5-0FEC5509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AA5-FDE8-40C2-BCD5-E871CD0E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DB5E-B745-41E6-98E3-52AF6235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B629-2153-47E5-AB7D-2DE5D13D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A5E5-72DA-421E-8B56-6DC03B9E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AD93-A556-4C27-8902-59936C28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8271-CF63-4425-AAB7-CAFB31A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D70E-E6DB-4A74-9866-D461875E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5A14-30AF-4C34-A677-8B095607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9B8-932F-4008-873B-62C95770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920E-22C6-4289-8527-735C660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E821-37F1-4972-9D00-29E7359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AD9F-0D6C-4DFD-995F-F6F342D3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4A62-0808-4A35-8ACF-59EDD5F4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8235-3897-4859-B878-62AAEDEB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4AD2-0E96-48AC-B9C7-2FD685DC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E579-14F8-4496-B13B-476E2C70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0475-05EC-4A6F-AEDC-4CC4072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E09A-27D2-42D6-B62B-4E1C23E4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4E9B-7AAD-4F25-834D-D8B6DA45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3B4-EFB1-418E-A050-2E859B97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DD14-78BC-402F-9E25-C9FE278B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CC10-28C1-4865-87CD-3F1C402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E29C-F8B4-4781-B683-0B75445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6DCC-FB0A-477C-A0CC-0E7CD81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2504-440E-4175-B9AD-F6FB5B6A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9A0D-BA1F-4B7D-BEE2-AA3CB08C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C59E-CFD6-41DE-9F40-7123FCE3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2CB5-748E-4961-9065-3C93631E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C467-3678-4C03-9C03-EF82A3AE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69AA-7594-4FD8-9E36-F8798510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809-2D85-4336-BB85-60D61742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04FE-690B-42AA-BFF9-59F14947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01AE-6C3B-4C49-B07E-C2DA650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C106-8A14-436C-BFDE-3260EF6E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3EE40-519A-4B18-94A3-35EB10C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F01A6-4B57-438D-9092-66E0D6E5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0C1D-143D-4341-9738-9CA97856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495F-1144-4F2A-97CD-EA527FD7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6932-3DD0-4961-8D99-A39193CF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85A2-39CC-41F4-94B4-F0217978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A2BB1-B252-40E5-9380-37816D36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B2F-5CEB-4BAB-AAB3-A27873CE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D01C-6E44-4B82-9DC7-2B353214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F4338-6E2D-4AF2-A18B-0558C18A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5E1E5-4A6E-45FC-A1A7-7F83BB4C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07C41-D0A5-4958-92AB-13DDF65C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783AE-F851-4FEF-B3DF-1ABACE75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67AD-5541-47A7-9582-CF00489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50E78-94E5-4FF5-B4DB-6228F0E3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7DCA3-E239-4635-BE10-706C35C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83950-1BA1-4166-81D4-AEA2D6EC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DD96-E6FE-4D87-939C-80888D88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29A-7420-4513-9112-68827FD3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D1EB-F16F-4C6D-9BD0-94C4F3E7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44E8-05D9-4D2C-B71E-B6390E7A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EC8A-C2F2-4BC8-8051-6767FE37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C9C3F-38F8-452A-BD22-D3AE7D0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070C9-AF73-4798-8514-27FD1AF5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AB8F6-1B19-404B-94CE-B10C5A69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7A832-128B-4697-9792-05A90F2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CB17E-74F2-4A6B-8E38-D0E0574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D3A8-F973-47CE-997E-B809F85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8E174-9B96-415E-A49D-A26D14F4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8EC-48B0-4766-B6F0-C6EA9155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5AC5-6D2B-4843-A0CC-78852941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6A479-469F-4D18-931A-14A816E4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455B5-0BB0-4E83-8836-2BE492CC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663A-F617-452D-B6DD-B1979B4F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86EA-FA48-46FE-92CF-72C9C6CA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95FD-D470-4D8E-BC1A-35BC0DDE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A9BAF-F06C-4855-9A63-468024F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08BF5-289C-4014-94D4-3156F22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7D0C-209B-44CA-8B95-FF4502FF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38FA8-2BB7-4284-8EAA-EC328C0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055-53D9-47A7-B833-5D627AF9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CF01-9386-4D71-9E31-03EADDB7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3D520-E6B7-465F-8F5C-3917378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F9D9-2FEC-4105-A93C-2EB16023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87992-9FEF-4089-A1D4-DC33637B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2EB83-EEAA-4D25-9248-FF8FDA78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900FA-650B-47FA-8119-C2AD11E2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B0595-E984-4A30-80D8-CA89AAFE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05AC2-8AA0-40D5-B21E-C0CAD434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12ECC-3F76-401C-8E90-9223C8CE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1E540-4EA9-40D0-AD20-D838C368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B18-5907-41F4-AFD8-9E1A268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F8DE4-B68E-4834-85A1-2A6CEB5D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45421-8983-47F3-8B65-FE4B2F89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0CE6-96C5-45DF-80D9-929BA0FF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21736-D166-4F2C-929C-0A9B330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87A13-3A20-43AE-AD40-8D51D192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8DBEA-63F2-411C-A8E3-C132EFF9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57299-A7DF-4380-ABFC-BFFEA300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6CB3-A01B-4114-AB0A-4F185B979C8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EEF-CD84-4DDE-A2F9-7224003892C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DECE-E291-4915-90F9-74FD7FC254F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CFA2-8F0E-40F2-8112-98EEA0E0731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FEE2-6295-4D06-A7B8-2627AE46E054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EC91-58D4-445F-9892-66040DCA402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0CD2-B385-4CBD-8FE9-85A6BB4D577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E20D-4F40-41BF-93C0-7707AF1BF8C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7332-9E39-47E3-AFCB-B53C2CB8FEF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0085-8CE9-4950-A256-303AADAF65D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3F8-E9F6-48D8-BE39-DB478FD78AC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C399-2E23-4EBA-BBEE-B34D3425F1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67C0-A880-40B7-B172-649E0CCADCF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3028-6F4E-4B05-89B3-EBE27697F45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9D55-7F48-41B2-9F68-E5FB3025FB0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youtube.com/watch?v=nLXDknPhU1c&amp;feature=related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centerforcsri.org/plc/literature.html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56960" cy="4523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utnam Northern Westchester BOCES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55" name="Picture 2" descr="C:\Users\Lynn\Pictures\boces_logo.gif"/>
          <p:cNvPicPr/>
          <p:nvPr/>
        </p:nvPicPr>
        <p:blipFill>
          <a:blip r:embed="rId2"/>
          <a:stretch/>
        </p:blipFill>
        <p:spPr>
          <a:xfrm>
            <a:off x="3429000" y="533412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Share example of </a:t>
            </a: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Yorktown High School Action Plan </a:t>
            </a: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– Lori Roberts, Assistant Principal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6FAB-3F76-456C-AAD3-612B354287C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68D-00D3-4BFA-8630-72C3313CC3A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2"/>
          <p:cNvGraphicFramePr/>
          <p:nvPr/>
        </p:nvGraphicFramePr>
        <p:xfrm>
          <a:off x="0" y="1447920"/>
          <a:ext cx="9144000" cy="510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9144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4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D93C-EAF4-4179-85C4-CAF4C2CF12E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Corbel"/>
              </a:rPr>
              <a:t>Self-Reflection Activity: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318960">
              <a:buClr>
                <a:srgbClr val="60b5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Rate how your action plans incorporate PLC tenets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D5C4-8545-4C88-9358-B63A413CA2A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C:\Users\Lynn\AppData\Local\Microsoft\Windows\Temporary Internet Files\Content.IE5\JAR6784C\MC900198862[1].wmf"/>
          <p:cNvPicPr/>
          <p:nvPr/>
        </p:nvPicPr>
        <p:blipFill>
          <a:blip r:embed="rId2"/>
          <a:stretch/>
        </p:blipFill>
        <p:spPr>
          <a:xfrm>
            <a:off x="7162920" y="152280"/>
            <a:ext cx="18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444600"/>
            <a:ext cx="8016840" cy="93348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3"/>
          <p:cNvGrpSpPr/>
          <p:nvPr/>
        </p:nvGrpSpPr>
        <p:grpSpPr>
          <a:xfrm>
            <a:off x="533520" y="2872440"/>
            <a:ext cx="3475440" cy="1928520"/>
            <a:chOff x="533520" y="2872440"/>
            <a:chExt cx="3475440" cy="1928520"/>
          </a:xfrm>
        </p:grpSpPr>
        <p:sp>
          <p:nvSpPr>
            <p:cNvPr id="400" name="Text Box 4"/>
            <p:cNvSpPr/>
            <p:nvPr/>
          </p:nvSpPr>
          <p:spPr>
            <a:xfrm>
              <a:off x="533520" y="3551400"/>
              <a:ext cx="2286000" cy="8337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0b5cc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onse to Intervention (Rt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5"/>
            <p:cNvGrpSpPr/>
            <p:nvPr/>
          </p:nvGrpSpPr>
          <p:grpSpPr>
            <a:xfrm>
              <a:off x="2436840" y="2872440"/>
              <a:ext cx="1572120" cy="1928520"/>
              <a:chOff x="2436840" y="2872440"/>
              <a:chExt cx="1572120" cy="1928520"/>
            </a:xfrm>
          </p:grpSpPr>
          <p:sp>
            <p:nvSpPr>
              <p:cNvPr id="402" name="Arc 6"/>
              <p:cNvSpPr/>
              <p:nvPr/>
            </p:nvSpPr>
            <p:spPr>
              <a:xfrm flipH="1" rot="18727800">
                <a:off x="2665800" y="3458160"/>
                <a:ext cx="1113120" cy="1113120"/>
              </a:xfrm>
              <a:custGeom>
                <a:avLst/>
                <a:gdLst>
                  <a:gd name="textAreaLeft" fmla="*/ 360 w 1113120"/>
                  <a:gd name="textAreaRight" fmla="*/ 1113840 w 1113120"/>
                  <a:gd name="textAreaTop" fmla="*/ 0 h 1113120"/>
                  <a:gd name="textAreaBottom" fmla="*/ 1113480 h 111312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0080ff"/>
                </a:solidFill>
                <a:round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7"/>
              <p:cNvSpPr/>
              <p:nvPr/>
            </p:nvSpPr>
            <p:spPr>
              <a:xfrm flipH="1" rot="2790000">
                <a:off x="3018240" y="2971800"/>
                <a:ext cx="480600" cy="479520"/>
              </a:xfrm>
              <a:prstGeom prst="triangle">
                <a:avLst>
                  <a:gd name="adj" fmla="val 50000"/>
                </a:avLst>
              </a:prstGeom>
              <a:solidFill>
                <a:srgbClr val="0080ff"/>
              </a:solidFill>
              <a:ln w="9360">
                <a:solidFill>
                  <a:srgbClr val="0080ff"/>
                </a:solidFill>
                <a:miter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Group 8"/>
          <p:cNvGrpSpPr/>
          <p:nvPr/>
        </p:nvGrpSpPr>
        <p:grpSpPr>
          <a:xfrm>
            <a:off x="4948920" y="3123720"/>
            <a:ext cx="4195080" cy="1926720"/>
            <a:chOff x="4948920" y="3123720"/>
            <a:chExt cx="4195080" cy="1926720"/>
          </a:xfrm>
        </p:grpSpPr>
        <p:sp>
          <p:nvSpPr>
            <p:cNvPr id="405" name="Text Box 9"/>
            <p:cNvSpPr/>
            <p:nvPr/>
          </p:nvSpPr>
          <p:spPr>
            <a:xfrm>
              <a:off x="6248520" y="3522600"/>
              <a:ext cx="2895480" cy="13269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52355"/>
                  </a:solidFill>
                  <a:latin typeface="Arial"/>
                </a:rPr>
                <a:t>Problem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ing Prob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 Variables that Contribute to Prob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elop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10"/>
            <p:cNvGrpSpPr/>
            <p:nvPr/>
          </p:nvGrpSpPr>
          <p:grpSpPr>
            <a:xfrm>
              <a:off x="4948920" y="3123720"/>
              <a:ext cx="1577880" cy="1926720"/>
              <a:chOff x="4948920" y="3123720"/>
              <a:chExt cx="1577880" cy="1926720"/>
            </a:xfrm>
          </p:grpSpPr>
          <p:sp>
            <p:nvSpPr>
              <p:cNvPr id="407" name="Arc 11"/>
              <p:cNvSpPr/>
              <p:nvPr/>
            </p:nvSpPr>
            <p:spPr>
              <a:xfrm flipV="1" rot="18727800">
                <a:off x="5176800" y="3355920"/>
                <a:ext cx="1121760" cy="1113120"/>
              </a:xfrm>
              <a:custGeom>
                <a:avLst/>
                <a:gdLst>
                  <a:gd name="textAreaLeft" fmla="*/ 0 w 1121760"/>
                  <a:gd name="textAreaRight" fmla="*/ 1122120 w 1121760"/>
                  <a:gd name="textAreaTop" fmla="*/ 360 h 1113120"/>
                  <a:gd name="textAreaBottom" fmla="*/ 1113840 h 111312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12"/>
              <p:cNvSpPr/>
              <p:nvPr/>
            </p:nvSpPr>
            <p:spPr>
              <a:xfrm flipV="1" rot="2790000">
                <a:off x="5460120" y="4469400"/>
                <a:ext cx="484200" cy="4795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3"/>
          <p:cNvGrpSpPr/>
          <p:nvPr/>
        </p:nvGrpSpPr>
        <p:grpSpPr>
          <a:xfrm>
            <a:off x="2095560" y="1617840"/>
            <a:ext cx="4952880" cy="1933920"/>
            <a:chOff x="2095560" y="1617840"/>
            <a:chExt cx="4952880" cy="1933920"/>
          </a:xfrm>
        </p:grpSpPr>
        <p:sp>
          <p:nvSpPr>
            <p:cNvPr id="410" name="Text Box 14"/>
            <p:cNvSpPr/>
            <p:nvPr/>
          </p:nvSpPr>
          <p:spPr>
            <a:xfrm>
              <a:off x="2095560" y="1617840"/>
              <a:ext cx="495288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2e536"/>
                  </a:solidFill>
                  <a:latin typeface="Arial"/>
                  <a:ea typeface="Arial"/>
                </a:rPr>
                <a:t>Define the Prob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ing Problem/Directly Measuring Behav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5"/>
            <p:cNvGrpSpPr/>
            <p:nvPr/>
          </p:nvGrpSpPr>
          <p:grpSpPr>
            <a:xfrm>
              <a:off x="3655800" y="1977120"/>
              <a:ext cx="1927800" cy="1574640"/>
              <a:chOff x="3655800" y="1977120"/>
              <a:chExt cx="1927800" cy="1574640"/>
            </a:xfrm>
          </p:grpSpPr>
          <p:sp>
            <p:nvSpPr>
              <p:cNvPr id="412" name="Arc 16"/>
              <p:cNvSpPr/>
              <p:nvPr/>
            </p:nvSpPr>
            <p:spPr>
              <a:xfrm flipH="1" rot="2527800">
                <a:off x="3884040" y="2207880"/>
                <a:ext cx="1117440" cy="1112400"/>
              </a:xfrm>
              <a:custGeom>
                <a:avLst/>
                <a:gdLst>
                  <a:gd name="textAreaLeft" fmla="*/ 360 w 1117440"/>
                  <a:gd name="textAreaRight" fmla="*/ 1118160 w 1117440"/>
                  <a:gd name="textAreaTop" fmla="*/ 0 h 1112400"/>
                  <a:gd name="textAreaBottom" fmla="*/ 1112760 h 111240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48cc22"/>
                </a:solidFill>
                <a:round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17"/>
              <p:cNvSpPr/>
              <p:nvPr/>
            </p:nvSpPr>
            <p:spPr>
              <a:xfrm flipH="1" rot="8190000">
                <a:off x="5001840" y="2560320"/>
                <a:ext cx="482760" cy="479520"/>
              </a:xfrm>
              <a:prstGeom prst="triangle">
                <a:avLst>
                  <a:gd name="adj" fmla="val 50000"/>
                </a:avLst>
              </a:prstGeom>
              <a:solidFill>
                <a:srgbClr val="48cc22"/>
              </a:solidFill>
              <a:ln w="9360">
                <a:solidFill>
                  <a:srgbClr val="48cc22"/>
                </a:solidFill>
                <a:miter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18"/>
          <p:cNvGrpSpPr/>
          <p:nvPr/>
        </p:nvGrpSpPr>
        <p:grpSpPr>
          <a:xfrm>
            <a:off x="2971800" y="4339440"/>
            <a:ext cx="3200400" cy="2379600"/>
            <a:chOff x="2971800" y="4339440"/>
            <a:chExt cx="3200400" cy="2379600"/>
          </a:xfrm>
        </p:grpSpPr>
        <p:sp>
          <p:nvSpPr>
            <p:cNvPr id="415" name="Text Box 19"/>
            <p:cNvSpPr/>
            <p:nvPr/>
          </p:nvSpPr>
          <p:spPr>
            <a:xfrm>
              <a:off x="2971800" y="5638680"/>
              <a:ext cx="3200400" cy="10803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e528"/>
                  </a:solidFill>
                  <a:latin typeface="Arial"/>
                  <a:ea typeface="Arial"/>
                </a:rPr>
                <a:t>Implement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 As Inten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ess Mon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ify as Necess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20"/>
            <p:cNvGrpSpPr/>
            <p:nvPr/>
          </p:nvGrpSpPr>
          <p:grpSpPr>
            <a:xfrm>
              <a:off x="3404520" y="4339440"/>
              <a:ext cx="1928160" cy="1574640"/>
              <a:chOff x="3404520" y="4339440"/>
              <a:chExt cx="1928160" cy="1574640"/>
            </a:xfrm>
          </p:grpSpPr>
          <p:sp>
            <p:nvSpPr>
              <p:cNvPr id="417" name="Arc 21"/>
              <p:cNvSpPr/>
              <p:nvPr/>
            </p:nvSpPr>
            <p:spPr>
              <a:xfrm flipV="1" rot="2527800">
                <a:off x="3986280" y="4570200"/>
                <a:ext cx="1117440" cy="1112400"/>
              </a:xfrm>
              <a:custGeom>
                <a:avLst/>
                <a:gdLst>
                  <a:gd name="textAreaLeft" fmla="*/ 0 w 1117440"/>
                  <a:gd name="textAreaRight" fmla="*/ 1117800 w 1117440"/>
                  <a:gd name="textAreaTop" fmla="*/ 360 h 1112400"/>
                  <a:gd name="textAreaBottom" fmla="*/ 1113120 h 111240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e5d508"/>
                </a:solidFill>
                <a:round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AutoShape 22"/>
              <p:cNvSpPr/>
              <p:nvPr/>
            </p:nvSpPr>
            <p:spPr>
              <a:xfrm flipV="1" rot="8190000">
                <a:off x="3503160" y="4850280"/>
                <a:ext cx="482760" cy="479520"/>
              </a:xfrm>
              <a:prstGeom prst="triangle">
                <a:avLst>
                  <a:gd name="adj" fmla="val 50000"/>
                </a:avLst>
              </a:prstGeom>
              <a:solidFill>
                <a:srgbClr val="e5d508"/>
              </a:solidFill>
              <a:ln w="9360">
                <a:solidFill>
                  <a:srgbClr val="e5d508"/>
                </a:solidFill>
                <a:miter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3919680" y="3108240"/>
            <a:ext cx="13046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ew Video Clip on  Instructional Leadership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youtube.com/watch?v=nLXDknPhU1c&amp;feature=rela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C0D7-2943-4FC8-B846-4C86D81312C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Rectangle 4" descr=""/>
          <p:cNvPicPr/>
          <p:nvPr/>
        </p:nvPicPr>
        <p:blipFill>
          <a:blip r:embed="rId3"/>
          <a:stretch/>
        </p:blipFill>
        <p:spPr>
          <a:xfrm>
            <a:off x="1322280" y="3255840"/>
            <a:ext cx="64864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farside"/>
          <p:cNvPicPr/>
          <p:nvPr/>
        </p:nvPicPr>
        <p:blipFill>
          <a:blip r:embed="rId1"/>
          <a:stretch/>
        </p:blipFill>
        <p:spPr>
          <a:xfrm>
            <a:off x="3581280" y="396720"/>
            <a:ext cx="5112000" cy="60627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838080" y="19051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mericanTypewriter"/>
              </a:rPr>
              <a:t>High above the hushed crowd, Rex tried to remain focused. Still, he couldn’t shake one nagging thought: He was an old dog and this was a new trick</a:t>
            </a:r>
            <a:r>
              <a:rPr b="1" lang="en-US" sz="1800" spc="-1" strike="noStrike">
                <a:solidFill>
                  <a:srgbClr val="b48200"/>
                </a:solidFill>
                <a:latin typeface="AmericanTypewriter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 vert="eaVer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5791320" y="1523520"/>
            <a:ext cx="2590560" cy="3048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213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Typewrite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mericanTypewriter"/>
              </a:rPr>
              <a:t>Stop asking me if we’re almost there; we’re Nomads, for crying out loud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3" descr="nomads"/>
          <p:cNvPicPr/>
          <p:nvPr/>
        </p:nvPicPr>
        <p:blipFill>
          <a:blip r:embed="rId1"/>
          <a:stretch/>
        </p:blipFill>
        <p:spPr>
          <a:xfrm>
            <a:off x="533520" y="228600"/>
            <a:ext cx="52401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flect on one of the following featured quotes and indicate an issue/challenge/action that it suggests in relation to your action plan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A leader must have the courage to act against an expert’s advice.   James Callagha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Leadership is the art of getting someone else to do something you want done because he wants to do it.  Dwight Eisenhow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There’s nothing more demoralizing than a leader who can’t clearly articulate why we’re doing what we’re doing.  James Kouzes and Barry Posn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The very essence of leadership is that you have  vision.  You can’t blow an uncertain trumpet.   Theodore  M. Hesburgh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I start with the premise that the function of leadership is to develop more leaders, not more followers.  Ralph N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7228-5E7E-4464-AC89-FD7495C07A5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4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7708-4C0B-46BB-8A5A-1A30A82D804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Professional Learning Communities (PLCs) Review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PNW BOCES PLCs at Work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Yorktown High School Action Plan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PLC Gap Analysis/Reflection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Action Plan Feedback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14EE-6E3E-486C-88F6-A6F3984A4EB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8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44792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Initial Presentation (5 minute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resenter presents a quick overview of his/her challenge. Frames one question for the response group to address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Clarifying Questions (5 minute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Response group members ask questions of the presenter that have factual   answers of a phrase or two in length. 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Probing Questions (5 minute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Response group members ask questions of the presenter that help the presenter clarify and extend his/her own thinking about the matter that has been presented to the group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Non-presenter Discussion (10 minute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The response group talks with each other while the presenter listens and takes note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Presenter Responds (10 minutes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The presenter responds to what the response group members said in the previous sectio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Reflection/Debrief (5 minutes)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Group debriefs the process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-36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hat was one of the most valuable things that you learned from participating in this workshop seri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hat suggestions do you have for future sessio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9B6F-996D-4336-A3EF-C5C510A1636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7848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rbel"/>
              </a:rPr>
              <a:t>Congratulations on completing the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Regional Institute for School Leadership!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Corbel"/>
              </a:rPr>
              <a:t>Thank you for all of your contributions and please stay in touch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8F92-8448-4A9D-A6F1-706BE3AF20F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http://ts4.mm.bing.net/images/thumbnail.aspx?q=384200226223&amp;id=046caaac8d4ed4372e5e37a29bb89efc&amp;index=ch1"/>
          <p:cNvPicPr/>
          <p:nvPr/>
        </p:nvPicPr>
        <p:blipFill>
          <a:blip r:embed="rId2"/>
          <a:stretch/>
        </p:blipFill>
        <p:spPr>
          <a:xfrm>
            <a:off x="3124080" y="29718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4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8A2E-E16C-4CA3-A65F-2796565AD06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22824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be concepts related to professional learning communities, learning teams and distributed leadership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dentify how to change the way that professional development is thought of and conducte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be various strategies for building instructional capacity and improving student achievemen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5EBB-B0EA-4270-8192-D8D3A676AE6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PLC framework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olid foundation consisting of collaboratively developed and widely shared mission, vision, values and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ve teams that work interdependently to achieve common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focus on results as evidenced by a commitment to continuous impro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Source: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rbel"/>
              </a:rPr>
              <a:t>Getting Started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by Robert Eaker, Richard DuFour, &amp; Rebecca DuFou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FE11-FE00-4925-A133-F7AAAB3B8AE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2"/>
          <p:cNvGraphicFramePr/>
          <p:nvPr/>
        </p:nvGraphicFramePr>
        <p:xfrm>
          <a:off x="152280" y="1523880"/>
          <a:ext cx="8839440" cy="518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8394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54B-8330-40D2-8E93-2E3FCECC70E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:\Users\Lynn\AppData\Local\Microsoft\Windows\Temporary Internet Files\Content.IE5\5JSI1GSM\MP900438369[1].jpg"/>
          <p:cNvPicPr/>
          <p:nvPr/>
        </p:nvPicPr>
        <p:blipFill>
          <a:blip r:embed="rId4"/>
          <a:stretch/>
        </p:blipFill>
        <p:spPr>
          <a:xfrm>
            <a:off x="6553080" y="152280"/>
            <a:ext cx="2438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duction of isol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d commitment to the mission and goals of the scho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ared responsibility for student succ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ater job satisfaction and higher mora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wer rates of absenteeism (Hord, 1997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stained school improvement efforts (DuFour &amp; Eaker, 1998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urce: </a:t>
            </a: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centerforcsri.org/plc/literature.html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2285-5D95-4EBA-9C3A-BC7BB5FD04E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7" descr="C:\Users\Lynn\AppData\Local\Microsoft\Windows\Temporary Internet Files\Content.IE5\5GY7RADI\MC900431611[1].png"/>
          <p:cNvPicPr/>
          <p:nvPr/>
        </p:nvPicPr>
        <p:blipFill>
          <a:blip r:embed="rId3"/>
          <a:stretch/>
        </p:blipFill>
        <p:spPr>
          <a:xfrm>
            <a:off x="7315200" y="152280"/>
            <a:ext cx="1828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rbel"/>
              </a:rPr>
              <a:t>Six learning team principles &amp; practices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hared values and goal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Collective responsibilities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uthentic assessment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elf-directed reflection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table settings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trong leadership support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2D06-E6A3-4B94-970D-AE3F4B684DB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9" descr="C:\Users\Lynn\AppData\Local\Microsoft\Windows\Temporary Internet Files\Content.IE5\3B2U4YW7\MC900297575[1].wmf"/>
          <p:cNvPicPr/>
          <p:nvPr/>
        </p:nvPicPr>
        <p:blipFill>
          <a:blip r:embed="rId2"/>
          <a:stretch/>
        </p:blipFill>
        <p:spPr>
          <a:xfrm>
            <a:off x="7162920" y="152280"/>
            <a:ext cx="1825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Share example of </a:t>
            </a: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PLCs at Work in the Secondary Programs at PNW BOCES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CFD7-60DF-4846-9D6E-0CA5E873D7B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4:25:57Z</dcterms:created>
  <dc:creator>Lynn</dc:creator>
  <dc:description/>
  <dc:language>en-US</dc:language>
  <cp:lastModifiedBy>lallen</cp:lastModifiedBy>
  <dcterms:modified xsi:type="dcterms:W3CDTF">2011-01-13T22:18:21Z</dcterms:modified>
  <cp:revision>83</cp:revision>
  <dc:subject/>
  <dc:title>Regional Institute for  School Leadership</dc:title>
</cp:coreProperties>
</file>